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3BBA6-8BF9-454C-AE39-B75196517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53014-13D8-404A-BEB7-1C81C7C11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D253F-1BF1-4AEB-A714-838E6CD3B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8F77B-5D11-404A-AB1F-0C3170CAC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20D9A-E557-4055-BCD4-DEEB7D7A2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9A743-261E-4F4C-B2C1-603D080F2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F85DB-A925-4C8E-8CC6-9116C7267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6E11F-E82D-41A3-9BA1-FDC47EA14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34B31-3F29-44C2-B624-947C97F87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E4055-B342-419E-A5F2-624B83D4F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16D0C-F888-4C39-BE69-C56D51A73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4F6EC-B0B7-4268-839B-841727048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62AB8-CFC7-4678-91F8-D7FDB3486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93B19-4ED4-46BB-8163-B1163F0D8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0924B-8890-4AB4-A168-CA0C3EF32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0710F-F459-4EDA-8260-144D32F80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7BA90-6CF9-4863-9E2E-22DA94A30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9DE69-13A5-4A07-BFF5-674610E46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AAB37-EBE1-4653-ABC3-C1FC186B5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5DC7B-EB1B-4E11-B569-386F00A45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11AA4-4C9C-4167-AD28-0BD80CE7C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1493B-D3BC-4FE5-B5C5-E91961CF4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8FEB6-B446-49A6-BF94-07AC5F0C2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4ED3A-0593-4C83-A5C0-1F95B00D1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A2A11-9E8A-494F-BF7A-4F2B980CD3CA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04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D9999-6013-4E00-A5AB-4089F80AD63B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79400" y="1764360"/>
            <a:ext cx="7678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PRIME: </a:t>
            </a:r>
            <a:r>
              <a:rPr b="0" lang="zh-CN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予測入力システム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2916360" y="2860560"/>
            <a:ext cx="554184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小松弘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003-05-0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ttp://taiyaki.org/prime/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東京工業大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2" name="" descr="www.taiyaki.org"/>
          <p:cNvPicPr/>
          <p:nvPr/>
        </p:nvPicPr>
        <p:blipFill>
          <a:blip r:embed="rId1"/>
          <a:stretch/>
        </p:blipFill>
        <p:spPr>
          <a:xfrm>
            <a:off x="8244000" y="5950080"/>
            <a:ext cx="777600" cy="6062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7118280" y="6477120"/>
            <a:ext cx="185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ttp://taiyaki.or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予測入力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「こんにちは」の入力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58640" y="2727360"/>
            <a:ext cx="1963440" cy="934920"/>
            <a:chOff x="458640" y="2727360"/>
            <a:chExt cx="1963440" cy="934920"/>
          </a:xfrm>
        </p:grpSpPr>
        <p:sp>
          <p:nvSpPr>
            <p:cNvPr id="217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92120" y="3039120"/>
              <a:ext cx="1929960" cy="6228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ミュニケーション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候補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小松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00400" y="2768760"/>
              <a:ext cx="64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8640" y="307800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28280" y="2775240"/>
              <a:ext cx="222840" cy="24912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2638440" y="2725560"/>
            <a:ext cx="1964880" cy="933480"/>
            <a:chOff x="2638440" y="2725560"/>
            <a:chExt cx="1964880" cy="933480"/>
          </a:xfrm>
        </p:grpSpPr>
        <p:sp>
          <p:nvSpPr>
            <p:cNvPr id="224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673360" y="3036600"/>
              <a:ext cx="192996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71980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63844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882160" y="2783520"/>
              <a:ext cx="4435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4776480" y="2725560"/>
            <a:ext cx="1963800" cy="933480"/>
            <a:chOff x="4776480" y="2725560"/>
            <a:chExt cx="1963800" cy="933480"/>
          </a:xfrm>
        </p:grpSpPr>
        <p:sp>
          <p:nvSpPr>
            <p:cNvPr id="231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809960" y="3036600"/>
              <a:ext cx="193032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85604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77648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620680" y="3118320"/>
              <a:ext cx="100008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6983640" y="2725560"/>
            <a:ext cx="1931400" cy="935280"/>
            <a:chOff x="6983640" y="2725560"/>
            <a:chExt cx="1931400" cy="935280"/>
          </a:xfrm>
        </p:grpSpPr>
        <p:sp>
          <p:nvSpPr>
            <p:cNvPr id="238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983640" y="3036960"/>
              <a:ext cx="1931400" cy="6235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121520" y="276156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017200" y="2775960"/>
              <a:ext cx="1177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240192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56264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2300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426320" y="2708280"/>
            <a:ext cx="85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に合わせて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24280" y="270828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表示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857200" y="2708280"/>
            <a:ext cx="77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選んで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208720" y="270828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完了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!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文節変換の実現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403280" y="2708280"/>
            <a:ext cx="5903640" cy="504720"/>
            <a:chOff x="1403280" y="2708280"/>
            <a:chExt cx="5903640" cy="504720"/>
          </a:xfrm>
        </p:grpSpPr>
        <p:sp>
          <p:nvSpPr>
            <p:cNvPr id="252" name=""/>
            <p:cNvSpPr/>
            <p:nvPr/>
          </p:nvSpPr>
          <p:spPr>
            <a:xfrm>
              <a:off x="5867280" y="2708280"/>
              <a:ext cx="143964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85928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995640" y="2708280"/>
              <a:ext cx="7696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98764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195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403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484360" y="3429000"/>
            <a:ext cx="4464000" cy="504720"/>
            <a:chOff x="2484360" y="3429000"/>
            <a:chExt cx="4464000" cy="504720"/>
          </a:xfrm>
        </p:grpSpPr>
        <p:sp>
          <p:nvSpPr>
            <p:cNvPr id="259" name=""/>
            <p:cNvSpPr/>
            <p:nvPr/>
          </p:nvSpPr>
          <p:spPr>
            <a:xfrm>
              <a:off x="2484360" y="342900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492360" y="3429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787640" y="3429000"/>
              <a:ext cx="216072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2484360" y="5372280"/>
            <a:ext cx="5089680" cy="504720"/>
            <a:chOff x="2484360" y="5372280"/>
            <a:chExt cx="5089680" cy="504720"/>
          </a:xfrm>
        </p:grpSpPr>
        <p:sp>
          <p:nvSpPr>
            <p:cNvPr id="263" name=""/>
            <p:cNvSpPr/>
            <p:nvPr/>
          </p:nvSpPr>
          <p:spPr>
            <a:xfrm>
              <a:off x="248436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79640" y="5372280"/>
              <a:ext cx="151308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36400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659640" y="5372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1403280" y="4653000"/>
            <a:ext cx="7199280" cy="504720"/>
            <a:chOff x="1403280" y="4653000"/>
            <a:chExt cx="7199280" cy="504720"/>
          </a:xfrm>
        </p:grpSpPr>
        <p:sp>
          <p:nvSpPr>
            <p:cNvPr id="268" name=""/>
            <p:cNvSpPr/>
            <p:nvPr/>
          </p:nvSpPr>
          <p:spPr>
            <a:xfrm>
              <a:off x="3203640" y="4653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291280" y="4653000"/>
              <a:ext cx="934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03280" y="4653000"/>
              <a:ext cx="9367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41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49892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29928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9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88364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用言（動詞・形容詞）・助詞（の・が）等に対応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1476360" y="328464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476360" y="522936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783400" y="6308640"/>
            <a:ext cx="25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※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単語の予測を考慮しない条件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780000" y="5518080"/>
            <a:ext cx="511164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語辞書の抜本的変更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34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品詞情報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単語の頻度に基づいた優先順位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フォーマットの変更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「ローマ字⇔単語」から「ひらがな⇔単語」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の揺れを吸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変換ライブラリを作成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682560" y="5518080"/>
            <a:ext cx="237672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611280" y="5445000"/>
          <a:ext cx="2376360" cy="1079640"/>
        </p:xfrm>
        <a:graphic>
          <a:graphicData uri="http://schemas.openxmlformats.org/drawingml/2006/table">
            <a:tbl>
              <a:tblPr/>
              <a:tblGrid>
                <a:gridCol w="1347840"/>
                <a:gridCol w="102852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osok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in’a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85" name=""/>
          <p:cNvGraphicFramePr/>
          <p:nvPr/>
        </p:nvGraphicFramePr>
        <p:xfrm>
          <a:off x="3706920" y="5445000"/>
          <a:ext cx="5113080" cy="1079640"/>
        </p:xfrm>
        <a:graphic>
          <a:graphicData uri="http://schemas.openxmlformats.org/drawingml/2006/table">
            <a:tbl>
              <a:tblPr/>
              <a:tblGrid>
                <a:gridCol w="1296720"/>
                <a:gridCol w="863640"/>
                <a:gridCol w="1655640"/>
                <a:gridCol w="1297080"/>
              </a:tblGrid>
              <a:tr h="61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よそ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サ行・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しんあ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sp>
        <p:nvSpPr>
          <p:cNvPr id="286" name=""/>
          <p:cNvSpPr/>
          <p:nvPr/>
        </p:nvSpPr>
        <p:spPr>
          <a:xfrm>
            <a:off x="2843280" y="587700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1T08:43:07Z</dcterms:created>
  <dc:creator>Hiroyuki Komatsu</dc:creator>
  <dc:description/>
  <dc:language>en-US</dc:language>
  <cp:lastModifiedBy>Hiroyuki Komatsu</cp:lastModifiedBy>
  <dcterms:modified xsi:type="dcterms:W3CDTF">2003-05-01T12:07:07Z</dcterms:modified>
  <cp:revision>2</cp:revision>
  <dc:subject/>
  <dc:title>PRIME: 予測入力システム</dc:title>
</cp:coreProperties>
</file>