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927576"/>
        <c:axId val="99715516"/>
      </c:barChart>
      <c:catAx>
        <c:axId val="499275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715516"/>
        <c:crosses val="autoZero"/>
        <c:auto val="1"/>
        <c:lblAlgn val="ctr"/>
        <c:lblOffset val="100"/>
        <c:noMultiLvlLbl val="0"/>
      </c:catAx>
      <c:valAx>
        <c:axId val="997155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9275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E26D-B327-4B8E-84C1-FCEF2729C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7C33-D6C0-4C9A-B9FD-99B0A02C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09D9-6DEB-4C2F-8E67-D2B830C79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1A81-BCB8-4AF3-A04A-5E6789344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44C5-BA76-4E53-81FB-E5AE7682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E506-C2C0-48D2-8DC0-331D092B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9471-2A4B-4806-A044-5F621D7D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5CBA-032C-411D-8026-9923FC93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5A8E-EF75-4248-A327-85C9A021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29B1-A73F-423E-A4A3-F7E90755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E62A-AD4A-4463-BBCA-16342698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C5F5-5714-441A-B52A-2A007F2C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614897-89EA-40AD-A7C3-D811563DE4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