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52251"/>
        <c:axId val="15667921"/>
      </c:barChart>
      <c:catAx>
        <c:axId val="99352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7921"/>
        <c:crosses val="autoZero"/>
        <c:auto val="1"/>
        <c:lblAlgn val="ctr"/>
        <c:lblOffset val="100"/>
        <c:noMultiLvlLbl val="0"/>
      </c:catAx>
      <c:valAx>
        <c:axId val="15667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2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722-3E6C-4F24-91C9-2E79B631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1E3-0021-439D-ABA2-F7D7BDA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287-55F7-45CB-934A-FE134F25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C21-EE2C-43CC-8F32-DFCD849F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B12-D66A-4F26-8222-21DE16E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6C-DA84-4F6D-B6CC-C71739F2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550-C55C-4F88-8CC0-A6DB84F3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B7C-D200-4458-A775-86373C8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413-55DC-4D2D-8749-99208461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68E-836E-41AA-BF37-6DA5D14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516-73F6-4FC3-8EAE-E532D3C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E90-A778-4143-A630-620A66B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AB82-B948-4777-96B1-D425F4A7D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