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30191"/>
        <c:axId val="52373641"/>
      </c:barChart>
      <c:catAx>
        <c:axId val="48630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73641"/>
        <c:crosses val="autoZero"/>
        <c:auto val="1"/>
        <c:lblAlgn val="ctr"/>
        <c:lblOffset val="100"/>
        <c:noMultiLvlLbl val="0"/>
      </c:catAx>
      <c:valAx>
        <c:axId val="52373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30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854-26FF-4E65-A5BE-9BC7B081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195-F5D7-4E74-9029-45B85AA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CDC-BD55-4A97-936B-54A827A8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CB8-B8DB-422B-9E1C-A92E3615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A5C-010E-4B7A-81CB-6C0F79CF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F9F-717B-4C6E-B814-E147F616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F0E-AF2E-4FC2-8BE6-58E188F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619-DC14-49C8-8696-F507B8E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C3E-BEBE-49C5-93E0-8017ADA6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818-F755-4C5D-A533-312E460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937-F92D-42D2-B60C-9366F80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22F-44AF-44C8-B0BD-DBA9C6B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3CF05-BFC0-43F4-835A-9ED097CF8A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