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02628"/>
        <c:axId val="16802728"/>
      </c:barChart>
      <c:catAx>
        <c:axId val="19502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2728"/>
        <c:crosses val="autoZero"/>
        <c:auto val="1"/>
        <c:lblAlgn val="ctr"/>
        <c:lblOffset val="100"/>
        <c:noMultiLvlLbl val="0"/>
      </c:catAx>
      <c:valAx>
        <c:axId val="16802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2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C11-3D34-4B87-8B63-C921FCCA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40D-EAF3-4113-8E1D-BC26459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236-1061-44A2-8E49-85BEF09C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0F4-55AD-4ABF-8C01-0289239F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8A7-C0B2-4E5F-BAC3-20F46EC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2B6-5AC6-4129-AD0D-5F8D2606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661-B48C-49F3-8516-8FC06F4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D1A-A8CA-4587-9E5F-BBF6BD1C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45A-6A1F-4A05-92AD-FA262B3E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CF9-7C47-4C27-809F-19F6A27A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BD8-9196-40B6-983C-E1D6E2C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1B9-9A57-44EC-862E-47F77503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AB3A0-C490-44DB-864C-A4CA591A2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