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83094"/>
        <c:axId val="46514818"/>
      </c:barChart>
      <c:catAx>
        <c:axId val="84783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14818"/>
        <c:crosses val="autoZero"/>
        <c:auto val="1"/>
        <c:lblAlgn val="ctr"/>
        <c:lblOffset val="100"/>
        <c:noMultiLvlLbl val="0"/>
      </c:catAx>
      <c:valAx>
        <c:axId val="46514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83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746-E10E-4986-9B31-BCAE983C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2FC-99FD-4409-ACC7-C3226552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B6C-02C8-47A2-949C-618122F0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4F5-DA47-4065-B66E-627A869E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DC2-EC72-488D-80FB-D6C603D3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E88-3E08-4183-8653-275837C7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D93-B4BC-4C41-BE08-BD09CBE9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64B-94B3-4D43-98AD-89F90844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C7C-F9D2-49C3-B940-63E90DAD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090-CA01-4B15-8D66-84C22A49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E77-226E-4F71-BA97-4184B332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B5A-6D2C-47DF-8674-3962886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D6C4B-87C6-4C5C-913B-B0F1701551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