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073882"/>
        <c:axId val="89583741"/>
      </c:barChart>
      <c:catAx>
        <c:axId val="170738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583741"/>
        <c:crosses val="autoZero"/>
        <c:auto val="1"/>
        <c:lblAlgn val="ctr"/>
        <c:lblOffset val="100"/>
        <c:noMultiLvlLbl val="0"/>
      </c:catAx>
      <c:valAx>
        <c:axId val="895837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0738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7A5E-EB11-41DB-82FA-BC3FB2882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73C4-8706-4D51-A443-E5150291B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7231-3D54-438D-A5A0-91622EC2F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5DC6-EB4F-4D6D-A015-A03700945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4927-9E7E-48C5-A10F-46790BA97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B8E0-FC9B-4B79-993D-B01A6C91C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6836-4AEC-487D-8FD9-8EE9B3481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1589-E04D-438D-8426-9B6DF4E1E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8E42-7484-448C-A226-0E704053D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79FB-1B1C-4208-B4BE-705943021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98E3-577B-40CF-B5B2-3D7E3A5E4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CCB0-E698-47F5-8B4C-B64F80708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B926BE-DF34-44FA-B207-06BE70219B3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