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109592"/>
        <c:axId val="59081145"/>
      </c:barChart>
      <c:catAx>
        <c:axId val="510959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081145"/>
        <c:crosses val="autoZero"/>
        <c:auto val="1"/>
        <c:lblAlgn val="ctr"/>
        <c:lblOffset val="100"/>
        <c:noMultiLvlLbl val="0"/>
      </c:catAx>
      <c:valAx>
        <c:axId val="5908114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10959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BD7F8-3B4D-4259-B19F-065AAC583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CBD26-04F3-4FB9-BB48-37D02FA33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A9306-5F83-451B-929D-90323C044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ECF5E-4C04-427F-9F83-B77026954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CEA75-58F8-4AB3-9A90-7B5910817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4C692-1B67-43D7-A007-AE2C38E41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24D86-52AA-41D0-8CBF-A831424F6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23B63-2657-4352-AF86-FD36AAA6A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0C79E-3EBE-4859-9417-A39C9058E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54BC7-333E-4F48-A799-B7328A613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08E1E-D865-460F-818E-EADE69164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CDE62-80AF-4DA9-A108-DC3CABCEC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37F248-C136-4FEE-BE42-28461C215CD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