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EEDA68-352A-488A-8DC4-9FE44AEFD5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8CBC44-C423-470E-8942-24297D1C73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E34756-34EE-45E8-ADC1-318248D1A7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635457-685C-476C-9934-1D30032B04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4B8845-0C47-4044-B016-21F2CB6D46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5EDFA9-28B8-4654-860C-5048D2E32D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503C78-D0C6-406E-B96A-80E7DBDDDE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E97E14-0B30-4B95-B725-24A34C5130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110EC9-E97B-4599-9316-3BAAC2E821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4DEBF6-D332-40D0-A665-4113978B3A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A7B974-3BEF-47CD-85EC-594EBDD99B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F4452B-3EAF-4189-B643-6C6A730008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8EA52-46F3-41D1-8532-2C46F2ED8B2D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5f5f5f"/>
                </a:solidFill>
                <a:latin typeface="Century Gothic"/>
              </a:rPr>
              <a:t>Click to edit the outline text format</a:t>
            </a: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  <a:p>
            <a:pPr lvl="1" marL="457200" indent="0" algn="ctr"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38080" y="1981080"/>
            <a:ext cx="80773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5400"/>
            </a:br>
            <a:r>
              <a:rPr b="1" i="1" lang="en-US" sz="5400" spc="-1" strike="noStrike">
                <a:solidFill>
                  <a:srgbClr val="990000"/>
                </a:solidFill>
                <a:latin typeface="Century Gothic"/>
                <a:ea typeface="ＭＳ Ｐゴシック"/>
              </a:rPr>
              <a:t>	</a:t>
            </a: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9480" y="4191120"/>
            <a:ext cx="42674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2209680" y="52704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2704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3657600" y="5334120"/>
            <a:ext cx="1752480" cy="76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2" name=""/>
          <p:cNvGraphicFramePr/>
          <p:nvPr/>
        </p:nvGraphicFramePr>
        <p:xfrm>
          <a:off x="5715000" y="5334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334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4343400" y="4191120"/>
            <a:ext cx="42670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ndy Clement, George Harl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 Lab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6"/>
          <a:stretch/>
        </p:blipFill>
        <p:spPr>
          <a:xfrm>
            <a:off x="6477120" y="533520"/>
            <a:ext cx="2133360" cy="1731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8FFC84-3B16-4344-B17D-8B6E07D148F7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ngineering challenge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tight integration with the JD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s expect advanced feat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ger pars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the Java model is not inherently exten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0B2580-B636-4CCC-8CF1-9F95ADB129F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ancaster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ger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cument outline upda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nt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e 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bu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and run to break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77EBC0-DA07-4ACD-99B2-A7F17AA0379E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3. new crosscutting views</a:t>
            </a:r>
            <a:endParaRPr b="1" i="1" lang="en-US" sz="36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4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istening to user feedback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6868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working with large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ynamic effects of crosscutting can be un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osition of advice can be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cipatory 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I design page and bugzilla reports linked from </a:t>
            </a:r>
            <a:r>
              <a:rPr b="0" lang="en-US" sz="2800" spc="-1" strike="noStrike" u="sng">
                <a:solidFill>
                  <a:srgbClr val="666699"/>
                </a:solidFill>
                <a:uFillTx/>
                <a:latin typeface="Arial"/>
                <a:ea typeface="ＭＳ Ｐゴシック"/>
              </a:rPr>
              <a:t>http://eclipse.org/ajd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4572000"/>
            <a:ext cx="86868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636563"/>
                </a:solidFill>
                <a:latin typeface="Arial"/>
              </a:rPr>
              <a:t>I wasn't seeing an advice being executed and the that part of code was little unfamiliar to me. So I had to perform a search to find out the subaspects. If I had the proposed feature, navigating to those aspects would be so much easier. </a:t>
            </a:r>
            <a:r>
              <a:rPr b="0" lang="en-US" sz="2400" spc="-1" strike="noStrike">
                <a:solidFill>
                  <a:srgbClr val="636563"/>
                </a:solidFill>
                <a:latin typeface="Arial"/>
              </a:rPr>
              <a:t> Bugzilla report 509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2E5984-1297-498F-8105-2C6C356B1575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3505320" y="2666880"/>
          <a:ext cx="5457600" cy="393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3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3429000" y="2612880"/>
          <a:ext cx="5541840" cy="398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41840" cy="398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6" name=""/>
          <p:cNvGrpSpPr/>
          <p:nvPr/>
        </p:nvGrpSpPr>
        <p:grpSpPr>
          <a:xfrm>
            <a:off x="660240" y="1596960"/>
            <a:ext cx="7315200" cy="790560"/>
            <a:chOff x="660240" y="1596960"/>
            <a:chExt cx="7315200" cy="790560"/>
          </a:xfrm>
        </p:grpSpPr>
        <p:sp>
          <p:nvSpPr>
            <p:cNvPr id="157" name=""/>
            <p:cNvSpPr/>
            <p:nvPr/>
          </p:nvSpPr>
          <p:spPr>
            <a:xfrm>
              <a:off x="660240" y="193032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269720" y="159696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will the advice appl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101E15-EC0A-41E4-A26A-862C73CB1752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660240" y="1574640"/>
            <a:ext cx="7315200" cy="790560"/>
            <a:chOff x="660240" y="1574640"/>
            <a:chExt cx="7315200" cy="790560"/>
          </a:xfrm>
        </p:grpSpPr>
        <p:sp>
          <p:nvSpPr>
            <p:cNvPr id="163" name=""/>
            <p:cNvSpPr/>
            <p:nvPr/>
          </p:nvSpPr>
          <p:spPr>
            <a:xfrm>
              <a:off x="660240" y="190800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269720" y="157464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w as graph 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Eclipse call grap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3505320" y="2666880"/>
          <a:ext cx="5457600" cy="392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2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3429000" y="2612880"/>
          <a:ext cx="5533920" cy="3983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33920" cy="398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F4C8C7-A10B-4293-A96F-D13857DC2AFE}" type="slidenum">
              <a:t>15</a:t>
            </a:fld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ultiple advice at same join poin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my system has many aspec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their order of execution is releva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declar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precedenc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: Debug, Coordinato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609480" y="2819520"/>
            <a:ext cx="7696440" cy="374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38115F-EDA4-4465-8DF2-B3E5489D491B}" type="slidenum">
              <a:t>16</a:t>
            </a:fld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380520" y="51051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structure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75" name=""/>
          <p:cNvSpPr/>
          <p:nvPr/>
        </p:nvSpPr>
        <p:spPr>
          <a:xfrm>
            <a:off x="380880" y="5791320"/>
            <a:ext cx="86108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wrap-u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tensibility and contribution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source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APIs for IDE plugins and 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 need contribu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 and views can be reu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52280" y="4041720"/>
          <a:ext cx="8763120" cy="243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4041720"/>
                    <a:ext cx="8763120" cy="243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8C5E27-B4E7-49A9-BC72-3DA0ACE7D83B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Erik Hilsdale, Jim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gunin, 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Andy Clement, M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sten and 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AspectJ in Action"/>
          <p:cNvPicPr/>
          <p:nvPr/>
        </p:nvPicPr>
        <p:blipFill>
          <a:blip r:embed="rId1"/>
          <a:stretch/>
        </p:blipFill>
        <p:spPr>
          <a:xfrm>
            <a:off x="6775560" y="1790640"/>
            <a:ext cx="2063520" cy="247644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6095880" y="441972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68AE2F-BD3D-4714-BB8B-FA790DC1E122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560" y="3428640"/>
            <a:ext cx="8839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1. aspectj tools suite</a:t>
            </a:r>
            <a:endParaRPr b="1" i="1" lang="en-US" sz="40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304560" y="5181480"/>
            <a:ext cx="7551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98" name=""/>
          <p:cNvSpPr/>
          <p:nvPr/>
        </p:nvSpPr>
        <p:spPr>
          <a:xfrm>
            <a:off x="304920" y="4419720"/>
            <a:ext cx="76197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67B6B5-8433-4AB3-AB26-BFD47E84E731}" type="slidenum">
              <a:t>20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1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EABD2A-811C-4C73-A62B-A026E85385A7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build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238488-35C1-4D09-B2A2-1DF9855F8EEC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etbeans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2656AB-C51E-4D19-823D-637FD0C4855C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jbrows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E77B51-FA09-4105-93DA-D3309800BC67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mac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4B71E6-C4A2-4D95-90A6-A6930B8A1E20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lipse (up to 3.0m4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6D63E9-CDDE-4B0E-8BB4-BAF2E89A5ACD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38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2. next generation ajd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03-25T15:08:41Z</dcterms:modified>
  <cp:revision>500</cp:revision>
  <dc:subject/>
  <dc:title>Aspect-Oriented Programming with AspectJ</dc:title>
</cp:coreProperties>
</file>